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A6A-16C1-47EB-A3DB-105093A3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5D5-D9EE-43F8-82DC-25FBCB58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A37-8B6C-4BED-8B5E-94C39489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F20-054E-43D8-9882-F8DEEA7F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C0E4-7691-4212-A9D5-C6993BDF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B4D5-DC6F-481A-91DF-A8AE3A7D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35FF-2917-46FA-BD90-2BBBA7B5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4D11-EAD9-48DD-9424-78236188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8A7F-B190-43BB-9C4C-303812C0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EE49-FC5B-4ECD-B51F-3D5843BE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82B2-1AAB-4705-97B3-5B616295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D15-1BED-4EA6-B728-4CF0EA5E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37F1-51EF-4FD8-9565-A09CB10D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26CD-0014-413E-8DCC-95208CE3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62C5-E9ED-4C08-B95E-1549D3DB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8DC8-DE2B-400B-BCF1-898E0087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9724-CE8E-4059-9CD2-050961A2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76D-B09E-41E0-B961-3A7ACE64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BF8-A716-4C4F-B80F-7AFBCFBA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E77-446C-4055-AC2E-7E41812A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B36-5D56-4B10-A872-830BAF22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40B-E673-425E-AC8D-94655700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1F1-C542-49ED-9888-CB97A689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7E5-A435-4605-BF28-D96ADB51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9379-F056-431F-91CB-21F3046EDC8E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135C-03E4-4255-A2C7-3DAC6A37B448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ature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8840" y="857160"/>
            <a:ext cx="628632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85640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76100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553572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00120" y="1357200"/>
            <a:ext cx="55976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2484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429160" y="428760"/>
            <a:ext cx="2428920" cy="331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143000" y="357120"/>
            <a:ext cx="2641680" cy="33289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" descr=""/>
          <p:cNvPicPr/>
          <p:nvPr/>
        </p:nvPicPr>
        <p:blipFill>
          <a:blip r:embed="rId3"/>
          <a:stretch/>
        </p:blipFill>
        <p:spPr>
          <a:xfrm>
            <a:off x="712800" y="3767040"/>
            <a:ext cx="821844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</cp:lastModifiedBy>
  <dcterms:modified xsi:type="dcterms:W3CDTF">2012-12-03T14:04:07Z</dcterms:modified>
  <cp:revision>3</cp:revision>
  <dc:subject/>
  <dc:title>Слайд 1</dc:title>
</cp:coreProperties>
</file>